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45231"/>
        <c:axId val="39611179"/>
      </c:barChart>
      <c:catAx>
        <c:axId val="43045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11179"/>
        <c:crosses val="autoZero"/>
        <c:auto val="1"/>
        <c:lblAlgn val="ctr"/>
        <c:lblOffset val="100"/>
        <c:noMultiLvlLbl val="0"/>
      </c:catAx>
      <c:valAx>
        <c:axId val="39611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45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B2C-0CFA-495C-BFA5-6665122C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491-C8A6-45C8-834A-6EF7CF87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EC3-C049-49EC-BFE3-A4B516A0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B8E-FE8F-4636-A050-C2D952A4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55C-3706-438B-A616-B2F5C3B7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4F5-09DC-40C9-81F8-EEF84745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F51-3087-4F7E-A2C9-4395E5D9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F6E-F003-4ABB-B4B2-F669DB16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010-E89A-49E8-88F1-FFA9B765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9BC-0CAF-4AC3-98EF-6776F82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E06-1251-4357-BB29-3F627F67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B37-1073-46ED-9485-5BBB04D1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5EE8E-5EB8-4B99-B449-D2834B352B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