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16961"/>
        <c:axId val="35581797"/>
      </c:barChart>
      <c:catAx>
        <c:axId val="270169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81797"/>
        <c:crosses val="autoZero"/>
        <c:auto val="1"/>
        <c:lblAlgn val="ctr"/>
        <c:lblOffset val="100"/>
        <c:noMultiLvlLbl val="0"/>
      </c:catAx>
      <c:valAx>
        <c:axId val="35581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169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413-7980-405B-9E28-76C33D4C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4FE-47E0-4772-AC11-461E2D04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DBA4-94BE-4689-99BA-807A422E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ADE-2079-4FC7-84CD-7DD69F36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978-7986-41A7-8648-DEEAFD04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2F5-EB3A-40F5-8E52-796B54AA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6968-2619-4C0C-9AEC-83B02406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3E35-4717-44FF-8A87-B015CEC9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D490-595F-495E-95C7-01EAE132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E64-BAD5-422F-9CAB-17F75596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B457-4F7E-4ACA-BEE7-E4D38CA5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4450-6F7C-4DB6-87F5-F8AC234C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1883B-3F24-4D45-82EF-74544E34C6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