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148258"/>
        <c:axId val="40893826"/>
      </c:barChart>
      <c:catAx>
        <c:axId val="311482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93826"/>
        <c:crosses val="autoZero"/>
        <c:auto val="1"/>
        <c:lblAlgn val="ctr"/>
        <c:lblOffset val="100"/>
        <c:noMultiLvlLbl val="0"/>
      </c:catAx>
      <c:valAx>
        <c:axId val="408938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482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05A7-E079-4E54-8EA7-0137B6E0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3761-7421-4026-9E19-BE2F1A85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880D-A243-4B36-AA3C-2E8446CC0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9C67-0967-4CB7-82AD-944435BE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EA86-2388-4F02-A26A-6ED37242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FBE5-3CA1-4E7D-8EA5-9194FD22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B7E1-B83B-4FD0-82AC-3C40EC7F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503E-333D-4945-904B-F8C53EF8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F07E-9552-473F-A953-E7D43E9B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5198-8D49-430E-A1AF-4A758BBC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A618-C801-454F-86D2-17305481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E6FC-B009-4544-87CE-B72950CB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1D5A4-0E00-4D2B-9A7E-C17A6439D0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