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73784"/>
        <c:axId val="98197957"/>
      </c:barChart>
      <c:catAx>
        <c:axId val="94737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197957"/>
        <c:crosses val="autoZero"/>
        <c:auto val="1"/>
        <c:lblAlgn val="ctr"/>
        <c:lblOffset val="100"/>
        <c:noMultiLvlLbl val="0"/>
      </c:catAx>
      <c:valAx>
        <c:axId val="981979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737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4724-3E12-4271-B81E-1451D14FE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E25F-DE03-40E1-997F-07E9A37CD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0B4D-73AA-4736-A8F4-E84A8F412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91DB-F20C-41A2-B0A8-5F6BEB53C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DFE4-82D1-4ABF-93A2-36D61FF2A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EBD8-1F44-467B-9C0F-AA706C832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4776-A0AF-4A6A-8D42-41BAD47B5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5AF6-0F8F-4BE6-9D37-983E63790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ECDB-BDFA-4DBA-A740-556AC1DD6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702C-3767-4C46-91F5-A0E1F362D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DC2F-BB4E-4B5E-8A28-F91AD55C1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2A08-78ED-4085-84CE-A92778184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B87DD5-0AA1-44DC-8892-9859AAD341D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